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3D2E-A0CF-4B23-A1B1-5ECD7DC19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E35C-33B4-4C7C-852F-3A174DA44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ing Members: the British Library; the Technical Information Center of Denmark; TU Delft Library; the National Research Council’s Canada Institute for Scientific and Technical Information (NRC-CISTI); California Digital Library; Purdue University; and the German National Library of Science and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mbership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Cite has two levels of participation: full membership and associate membership. Full membership is geared towards national libraries and data centers, while associate membership is open to a broader group of organizations who support the aims and interests of DataC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ing Agent: TIB defers to local DataCite Member who provides access to DataCite service for minting DO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2DB3-3B0E-4C4F-9697-95AF5F9BC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s using DO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PCC/AR5 CMIP5 is assigning DOIs to NASA observational datas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s considering EZI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SA Helio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6213-5489-454C-BA22-B271E416B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rt reproducibility and integrity of scientific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dit for data creators and stew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journal editors rejected URL citation - regarded as transient (a very valid concer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5A9F-8179-4CCF-BF22-079BAE067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ndle System was developed by Corporation for National Research Initiatives; original version developed with DARP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andard data locator accepted for use in published literature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es an actionable, interoperable, persistent link through the use of identifier syntax and network resolution mechanism – i.e., the Handler System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urrently standardised in ISO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via ISO TC46/SC9)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; through </a:t>
            </a:r>
            <a:r>
              <a:rPr b="0" lang="en-GB" sz="1800" spc="-1" strike="noStrike">
                <a:solidFill>
                  <a:srgbClr val="0000ff"/>
                </a:solidFill>
                <a:latin typeface="Calibri"/>
              </a:rPr>
              <a:t>the home of ISBN, URI etc “content identifiers”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; syntax throug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SI/NISO standard Z39.84-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ed through a federation of Registration Agencies (RAs), under policies and common infrastructure provided by the IDF which controls the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US “Not for profit” open membership (with $35k annual membership fe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RAs have obligations for persistence, back-up in the event of failure – must sign agreement for use of the DOI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RAs pay operational fees to IDF’s technical operator for registering and maintaining DOI names (sliding scale per volum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Allows the transition of the management of persistent identifiers between 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Current best known applications are: www.crossref.org and www.datacite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DOI per unique data item – seems like first come- first serve approach.  How to avoid multiple registrations for the same product TB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EF22-D910-45D4-8B1D-6614E8459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755D-AADD-474E-A831-486B24770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7400" y="701640"/>
            <a:ext cx="4579920" cy="3436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etadata – descriptions that assign meaning to the data produc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OI added by DAAC to product metadata sent to GCMD and ECH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OI embedded into product metadata by science product generation system in next reprocessing campaig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: NSIDC chart Metadata Evolution for NASA Data Systems (MEND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etadata for some instrument-products is entirely contained in sections of the product data files.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xtensions must be kept in separate files and linked to the product fil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venance collection (e.g., DOI) could be accomplished at various places and times – TBD support for provenance servic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OI could be inserted into granules, collection or granule level metadata, added to technical documentation in NTRS to allow DOI-based queri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A9B7-994A-45C9-8234-6EDED58C30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dfather or reassign ORNL existing doi name &lt;ORNLDAAC&gt; for &lt;project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xactly compliant (ORNLDAAC was not the ‘project’ but was the ‘data center publisher’ in the ORNL schem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6296-CA66-4C06-B508-D20908255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B494-2497-473B-B759-8982E492D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C5B9-B4AD-43E3-B4FC-7635E507D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E743-A1E5-4FE7-9C3A-25026F71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38D-8E64-4FE0-8B3B-87230950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BB0D-D6A7-4B06-A0E8-6DC9FF69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0456-FC01-41E7-899A-306DC6E2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4C0-99D2-43BB-AFFE-5133F563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9E21-EA06-4803-A320-857AAF2A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BA81-BE50-49B0-96F6-A00E55F9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530B-B0E4-48FC-87D7-3BF2CE52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0E0D-5CF9-44F5-B2EC-EFCF3D5E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3766-9D2C-4407-B86F-1DF36090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2E5E-ED11-4B59-B68F-3AC07FEC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F155-06C7-4003-A673-9FA4F3ED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C661-2761-4A1A-9C0D-5813CEF65E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oi.org/" TargetMode="External"/><Relationship Id="rId2" Type="http://schemas.openxmlformats.org/officeDocument/2006/relationships/hyperlink" Target="http://dx.doi.org/10.1594/GFZ.GEOFON.gfz2009kciu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gital Object Identifiers for EOSDIS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SIP Winter Meeting Jan 6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ohn Moses, ES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ohn.f.moses@nasa.g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istration Agent: DataC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766800" y="1633680"/>
            <a:ext cx="3419280" cy="4457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190760" y="129528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Cite, established a scientific data application with ID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ice is run by open membership organization of gov and edu libraries. Focused on improving the scholarly infrastructure around datase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appropriate RA because of their focus on working with data centers to assign persistent identifiers to datasets leveraging the Digital Object Identifier (DOI) infrastructu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nited States Member Institu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alifornia Digital Library (Founding Memb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commended subscription provider because of bulk pricing and EZID Web/API servic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ffice of Scientific and Technical Information, US Department of Energy ( new Member Dec 2010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urdue University Libraries (Memb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university Consortium for Political and Social Research - ICPSR (Associate Memb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icrosoft Research (Associate Memb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2590920" y="5181480"/>
            <a:ext cx="167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IB: German National Library of Science and Techn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AC Recommendations for DO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NL already using CrossRef RA but would like to transition to DataCite and California Digital Library’s EZID (Bob Coo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EZID as having better services more closely aligned to our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Cite and EZID have started discussions with Thomson Reuters to get data citations (i.e., DOIs) in their index; expose EZID catalo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cts easy transition – DOI remains the same; get machine readable citation from CrossRef; script using EZID api to populate DataCite metad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SIDC recommends using DOIs and EZID (Ruth Duerr &amp; Mark Pars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lk pric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web service as well as API for bulk process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Ks as well as DOIs – to support granule cit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SFC in contact with CDL about DOIs and EZID (Chris Lyn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volved in structure for AIRS observations in CMIP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ested in a project wide approach and 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DAAC has expressed interest in assigning DOIs (Andy Bingha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blishable Persistent Data Identifi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nt unique and lasting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dentifiers for publ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re frequent and consistent citation of EOSDIS datase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find the NASA data used in resear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ardless of where it is moved to or who becomes responsible for 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LTA corollary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find the documentation for archived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enable metrics collection on cited datase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gital Object Identifiers (DOIs) have emerged as the most accepted data identifier in the publishing commun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Digital Object Identifi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I® system and the Handle System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ternet infra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I is an application of the Handle System to intellectual proper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wned by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International DOI Foundation (IDF)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doi.org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.  The system was developed from the publishing industry (circa 200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net resolution service for unique and persistent identifiers of digital obje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sts of two part alphanumeric string doi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[prefix]/[suffix]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.g., 10.1234/123; Prefix 10 is the DOI registry identifier; 1234 the Registrant (e.g. NAS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ffix alphanumeric string identifies the data item as decided by the registrant or ag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ample for Earthquake Event Dataset Authored by Automated System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eofon operator (2009): GEOFON event gfz2009kciu (NW Balkan Region)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eoForschungsZentrum Potsdam(GFZ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[ 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doi:10.1594/GFZ.GEOFON.gfz2009kciu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]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tation and Location information is maintain at the DOI registry by an IDF Registrant Agent (RA) through a subscription provi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itation and location information can be updated as frequently as desired by the Registrant subscription hold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ire is for one DOI per data item; but registry does not preclude multiple registrations/publishers of ‘similar’ 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n migrate existing DOIs to new or different Registrant Agent and/or owner at any ti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ing DOIs for EOSD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907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ing the ops concept and scope of ESDIS-DAAC roles/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2792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uidelines for DOI suffix profile, citation/location inform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2792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lifornia Digital Library (Joan Starr), Dept Of Energy (Sharon Jordan), NASA Scientific &amp; Technical Information (Gerald Steema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2792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nt DOIs to be attractive to users, solicit feedback from DAAC UW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est, assign, monitor DOIs, citation &amp; location in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 DOIs to DAAC product citation web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DOIs to GCMD and ECHO through metadata upd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bed DOIs into product metadata at next reproc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DOI metadata to NTRS for searchable docu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up metrics collection from journal citation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28520"/>
            <a:ext cx="70675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mplementation in Interoperable Architectur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405080" y="1295280"/>
            <a:ext cx="594504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1219320" y="60310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adata flows in NASA Earth Science Data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4932360" y="6308640"/>
            <a:ext cx="2852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1783-2A08-49E7-AC27-DBEEAB9F0B9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12"/>
          <p:cNvGrpSpPr/>
          <p:nvPr/>
        </p:nvGrpSpPr>
        <p:grpSpPr>
          <a:xfrm>
            <a:off x="990720" y="1295280"/>
            <a:ext cx="7010280" cy="2846520"/>
            <a:chOff x="990720" y="1295280"/>
            <a:chExt cx="7010280" cy="2846520"/>
          </a:xfrm>
        </p:grpSpPr>
        <p:sp>
          <p:nvSpPr>
            <p:cNvPr id="61" name="Right Arrow 16"/>
            <p:cNvSpPr/>
            <p:nvPr/>
          </p:nvSpPr>
          <p:spPr>
            <a:xfrm>
              <a:off x="6400800" y="1295280"/>
              <a:ext cx="1600200" cy="761760"/>
            </a:xfrm>
            <a:prstGeom prst="rightArrow">
              <a:avLst>
                <a:gd name="adj1" fmla="val 50000"/>
                <a:gd name="adj2" fmla="val 50017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Provenanc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ollec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ight Arrow 17"/>
            <p:cNvSpPr/>
            <p:nvPr/>
          </p:nvSpPr>
          <p:spPr>
            <a:xfrm>
              <a:off x="3690360" y="1904760"/>
              <a:ext cx="761760" cy="3808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DOI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Right Arrow 18"/>
            <p:cNvSpPr/>
            <p:nvPr/>
          </p:nvSpPr>
          <p:spPr>
            <a:xfrm>
              <a:off x="6400800" y="1904760"/>
              <a:ext cx="1600200" cy="761760"/>
            </a:xfrm>
            <a:prstGeom prst="rightArrow">
              <a:avLst>
                <a:gd name="adj1" fmla="val 50000"/>
                <a:gd name="adj2" fmla="val 50017"/>
              </a:avLst>
            </a:prstGeom>
            <a:solidFill>
              <a:srgbClr val="604a7b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Provenanc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Servic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ight Arrow 19"/>
            <p:cNvSpPr/>
            <p:nvPr/>
          </p:nvSpPr>
          <p:spPr>
            <a:xfrm>
              <a:off x="2928240" y="3200400"/>
              <a:ext cx="761760" cy="3808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604a7b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tool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Right Arrow 20"/>
            <p:cNvSpPr/>
            <p:nvPr/>
          </p:nvSpPr>
          <p:spPr>
            <a:xfrm>
              <a:off x="5290560" y="1904760"/>
              <a:ext cx="761760" cy="424440"/>
            </a:xfrm>
            <a:prstGeom prst="rightArrow">
              <a:avLst>
                <a:gd name="adj1" fmla="val 50000"/>
                <a:gd name="adj2" fmla="val 49995"/>
              </a:avLst>
            </a:prstGeom>
            <a:solidFill>
              <a:srgbClr val="604a7b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tool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ight Arrow 22"/>
            <p:cNvSpPr/>
            <p:nvPr/>
          </p:nvSpPr>
          <p:spPr>
            <a:xfrm>
              <a:off x="990720" y="3760920"/>
              <a:ext cx="761760" cy="3808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DOI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Rounded Rectangle 13"/>
          <p:cNvSpPr/>
          <p:nvPr/>
        </p:nvSpPr>
        <p:spPr>
          <a:xfrm>
            <a:off x="6629400" y="4495680"/>
            <a:ext cx="1219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ASA Technical Reports 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ight Arrow 14"/>
          <p:cNvSpPr/>
          <p:nvPr/>
        </p:nvSpPr>
        <p:spPr>
          <a:xfrm>
            <a:off x="5943600" y="48769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O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ight Arrow 23"/>
          <p:cNvSpPr/>
          <p:nvPr/>
        </p:nvSpPr>
        <p:spPr>
          <a:xfrm>
            <a:off x="7772400" y="4800600"/>
            <a:ext cx="762120" cy="42372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oo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 Con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ACs propose the datasets and order to be assigned DO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e citation and location information according to ESDIS guideli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t online DOI information as assig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 with instrument teams and product generation teams to get DOIs embedded into product granule-level meta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 with NTRS to add DOI to searchable meta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DIS approves the process for assigning DOI structure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rove new DOIs and best practices; dupport nominal rate of requ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ablish suffix naming convention; avoid organization 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new DOIs at dataset level, when a major change in product ver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 ancillary (e.g., non-NASA) ES datasets on non-interference ba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DOI suffix structure master – ensures consistency and uniqu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.e., maintain two levels – &lt;measurement project or mission-instrument&gt;/&lt;product id (version)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 maintenance of citation and location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e guidance on implementation of DOIs in meta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mber Institute using DataCite (RA)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lifornia Digital Library and EZID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ZID is a service providing researchers a way to manage identifiers persistently for datasets, files, and resources of all types. The service is available via a machine to machine programming interface (an API) and as a web user interface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re functio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a persistent identifier: DO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object location (URL landing page, separate from cit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citation metadata (DataCite repository, mandatory shown belo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reator (person or organization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itle (long name of datase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ublisher (holder of the data – organization making it available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ublication Year (year when data was, or will be first available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object lo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object meta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F THERE IS MORE T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I 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8676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5T17:41:06Z</dcterms:created>
  <dc:creator>jfmoses</dc:creator>
  <dc:description/>
  <dc:language>en-US</dc:language>
  <cp:lastModifiedBy>Curt Tilmes</cp:lastModifiedBy>
  <dcterms:modified xsi:type="dcterms:W3CDTF">2012-01-06T13:03:23Z</dcterms:modified>
  <cp:revision>374</cp:revision>
  <dc:subject/>
  <dc:title>Slide 1</dc:title>
</cp:coreProperties>
</file>